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media/image8.wmf" ContentType="image/x-wmf"/>
  <Override PartName="/ppt/media/image9.gif" ContentType="image/gif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7D7-3834-4574-9AEE-8509E609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E499-82EB-4B21-8A82-DCA9E4A3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55D9-6D8A-45A7-A3F0-81789170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E4EA-F219-47C2-8DBC-6FCE029C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4458-DE86-48D1-8DE3-75ECCB55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F2D6-101B-4304-97C2-9B1BE7A2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E392-8D76-4547-86E9-ED390C8A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52A1-F356-46C1-8320-C928048F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9CDD-7EAA-49FD-882E-8BB26C05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BAF2-A5BE-4D1A-AF46-18B56200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C966-93D4-4099-BC33-90351810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1B6-C718-44C3-9429-C359CD1E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9661-7FA5-45EC-8C71-5A661152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1471-22D7-4B9E-9CD9-C21AE911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68DD-BE8B-4A94-AC8E-BF62BFAC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35D9-7F13-44D6-8E91-23C0A886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7A1E-D418-43ED-ACDB-5C7E7C14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A929-9228-4CA8-A0F9-B147649F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6721-868A-4CDA-85F9-ACE5EAC2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0105-9D70-4B5C-988C-BE46E6DD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847C-58AE-4AEA-8327-223D9D95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5112-8523-4FA5-B203-7FFABCAC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334C-5D8A-40BC-AE69-5401C4A5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416A-62FE-4D3A-BC23-4B8F63CE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8881-B617-4AEE-84B2-9F66983F2D82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B8FD-11B6-4518-949E-9DD0B7A0FF93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7E9F-8F75-4AB2-836E-A633814DA449}" type="datetime">
              <a:rPr b="0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29</a:t>
            </a:fld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D058-2763-43AE-9752-503DDB97D69F}" type="slidenum">
              <a:rPr b="0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5129"/>
          <p:cNvSpPr/>
          <p:nvPr/>
        </p:nvSpPr>
        <p:spPr>
          <a:xfrm>
            <a:off x="1676520" y="2438280"/>
            <a:ext cx="59436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47  Summer Plan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3" name="图片 5132" descr="Group_Discussion"/>
          <p:cNvPicPr/>
          <p:nvPr/>
        </p:nvPicPr>
        <p:blipFill>
          <a:blip r:embed="rId1"/>
          <a:stretch/>
        </p:blipFill>
        <p:spPr>
          <a:xfrm>
            <a:off x="4267080" y="3733920"/>
            <a:ext cx="2881440" cy="20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16392"/>
          <p:cNvSpPr/>
          <p:nvPr/>
        </p:nvSpPr>
        <p:spPr>
          <a:xfrm>
            <a:off x="533520" y="1053720"/>
            <a:ext cx="75898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I want to keep learning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想一直学习。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矩形 16395"/>
          <p:cNvSpPr/>
          <p:nvPr/>
        </p:nvSpPr>
        <p:spPr>
          <a:xfrm>
            <a:off x="731880" y="2367000"/>
            <a:ext cx="795492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keep doing sth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直做某事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keep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后跟动词时一定要用现在分词的形式，类似的有：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inish doing sth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做完某事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joy doing sth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享受做某事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actice doing sth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练习做某事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ve fun doing sth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做某事快乐。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8"/>
          <p:cNvSpPr/>
          <p:nvPr/>
        </p:nvSpPr>
        <p:spPr>
          <a:xfrm>
            <a:off x="3581280" y="762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37893"/>
          <p:cNvSpPr/>
          <p:nvPr/>
        </p:nvSpPr>
        <p:spPr>
          <a:xfrm>
            <a:off x="1066680" y="1447920"/>
            <a:ext cx="7239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想上钢琴课。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 want to _____ piano _______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他们对这个消息都感到很兴奋。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y are all _______ ______ the news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雨下了一天。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 ______ ________ for a day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文本框 37894"/>
          <p:cNvSpPr/>
          <p:nvPr/>
        </p:nvSpPr>
        <p:spPr>
          <a:xfrm>
            <a:off x="2743200" y="266688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k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文本框 37899"/>
          <p:cNvSpPr/>
          <p:nvPr/>
        </p:nvSpPr>
        <p:spPr>
          <a:xfrm>
            <a:off x="3124080" y="3733920"/>
            <a:ext cx="23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cited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" name="文本框 37900"/>
          <p:cNvSpPr/>
          <p:nvPr/>
        </p:nvSpPr>
        <p:spPr>
          <a:xfrm>
            <a:off x="1752480" y="48006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eep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文本框 37901"/>
          <p:cNvSpPr/>
          <p:nvPr/>
        </p:nvSpPr>
        <p:spPr>
          <a:xfrm>
            <a:off x="2666880" y="480060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aining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矩形 37907"/>
          <p:cNvSpPr/>
          <p:nvPr/>
        </p:nvSpPr>
        <p:spPr>
          <a:xfrm>
            <a:off x="4267080" y="3733920"/>
            <a:ext cx="24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ou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矩形 37914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sson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33796"/>
          <p:cNvSpPr/>
          <p:nvPr/>
        </p:nvSpPr>
        <p:spPr>
          <a:xfrm>
            <a:off x="2825640" y="1293840"/>
            <a:ext cx="327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4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126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4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6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7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8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9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0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1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2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3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4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5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6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7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8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9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0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1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2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3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5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6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7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8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9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0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1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4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6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1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2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3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24" name="文本框 33897"/>
          <p:cNvSpPr/>
          <p:nvPr/>
        </p:nvSpPr>
        <p:spPr>
          <a:xfrm>
            <a:off x="685800" y="27748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对暑假有很多期盼吧！你想在暑假做什么呢？写出来和大家分享一下吧。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文本框 66567"/>
          <p:cNvSpPr/>
          <p:nvPr/>
        </p:nvSpPr>
        <p:spPr>
          <a:xfrm>
            <a:off x="1028880" y="2711520"/>
            <a:ext cx="708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The early bird catches the worm.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早起的鸟儿有虫吃。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26" name="图片 66569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6657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1143000" y="274320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have any plans for the summer holiday?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do you want to do?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053520" y="1981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7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44039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矩形 44049"/>
          <p:cNvSpPr/>
          <p:nvPr/>
        </p:nvSpPr>
        <p:spPr>
          <a:xfrm>
            <a:off x="3505320" y="545616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图片 44057" descr="u=888578322,4073571781&amp;fm=52&amp;gp=0"/>
          <p:cNvPicPr/>
          <p:nvPr/>
        </p:nvPicPr>
        <p:blipFill>
          <a:blip r:embed="rId1"/>
          <a:srcRect l="0" t="0" r="0" b="9332"/>
          <a:stretch/>
        </p:blipFill>
        <p:spPr>
          <a:xfrm>
            <a:off x="1752480" y="2057400"/>
            <a:ext cx="5791320" cy="34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48131"/>
          <p:cNvSpPr/>
          <p:nvPr/>
        </p:nvSpPr>
        <p:spPr>
          <a:xfrm>
            <a:off x="3124080" y="53802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ijing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niversit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2" name="图片 48144" descr="u=1987826675,3598484221&amp;fm=23&amp;gp=0"/>
          <p:cNvPicPr/>
          <p:nvPr/>
        </p:nvPicPr>
        <p:blipFill>
          <a:blip r:embed="rId1"/>
          <a:stretch/>
        </p:blipFill>
        <p:spPr>
          <a:xfrm>
            <a:off x="1371600" y="1219320"/>
            <a:ext cx="609588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49159"/>
          <p:cNvSpPr/>
          <p:nvPr/>
        </p:nvSpPr>
        <p:spPr>
          <a:xfrm>
            <a:off x="3048120" y="5410080"/>
            <a:ext cx="39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ake swimming lesson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4" name="图片 49165" descr="u=922480176,3407970421&amp;fm=52&amp;gp=0"/>
          <p:cNvPicPr/>
          <p:nvPr/>
        </p:nvPicPr>
        <p:blipFill>
          <a:blip r:embed="rId1"/>
          <a:stretch/>
        </p:blipFill>
        <p:spPr>
          <a:xfrm>
            <a:off x="1447920" y="1295280"/>
            <a:ext cx="61722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53251"/>
          <p:cNvSpPr/>
          <p:nvPr/>
        </p:nvSpPr>
        <p:spPr>
          <a:xfrm>
            <a:off x="3048120" y="5410080"/>
            <a:ext cx="39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ive in the countrysid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6" name="图片 53253" descr="u=1377600796,2809223992&amp;fm=23&amp;gp=0"/>
          <p:cNvPicPr/>
          <p:nvPr/>
        </p:nvPicPr>
        <p:blipFill>
          <a:blip r:embed="rId1"/>
          <a:stretch/>
        </p:blipFill>
        <p:spPr>
          <a:xfrm>
            <a:off x="1752480" y="1219320"/>
            <a:ext cx="601992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14337"/>
          <p:cNvSpPr/>
          <p:nvPr/>
        </p:nvSpPr>
        <p:spPr>
          <a:xfrm>
            <a:off x="1066680" y="1219320"/>
            <a:ext cx="784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Listen and write T or F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矩形 14348"/>
          <p:cNvSpPr/>
          <p:nvPr/>
        </p:nvSpPr>
        <p:spPr>
          <a:xfrm>
            <a:off x="457200" y="2057400"/>
            <a:ext cx="800100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(       ) 1. It’s the last day for Ms. Liu’s class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(       )  2. The students are talking about their summer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plans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(       ) 3. Ms. Liu will rest in the summer holiday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文本框 14349"/>
          <p:cNvSpPr/>
          <p:nvPr/>
        </p:nvSpPr>
        <p:spPr>
          <a:xfrm>
            <a:off x="146088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文本框 14351"/>
          <p:cNvSpPr/>
          <p:nvPr/>
        </p:nvSpPr>
        <p:spPr>
          <a:xfrm>
            <a:off x="1601640" y="4419720"/>
            <a:ext cx="3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文本框 14352"/>
          <p:cNvSpPr/>
          <p:nvPr/>
        </p:nvSpPr>
        <p:spPr>
          <a:xfrm>
            <a:off x="1525680" y="3276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文本框 50180"/>
          <p:cNvSpPr/>
          <p:nvPr/>
        </p:nvSpPr>
        <p:spPr>
          <a:xfrm>
            <a:off x="1219320" y="685800"/>
            <a:ext cx="6476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Read and fill in the table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文本框 50193"/>
          <p:cNvSpPr/>
          <p:nvPr/>
        </p:nvSpPr>
        <p:spPr>
          <a:xfrm>
            <a:off x="3124080" y="25909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ork at the library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14400" y="1666800"/>
          <a:ext cx="7162920" cy="4276800"/>
        </p:xfrm>
        <a:graphic>
          <a:graphicData uri="http://schemas.openxmlformats.org/drawingml/2006/table">
            <a:tbl>
              <a:tblPr/>
              <a:tblGrid>
                <a:gridCol w="1828800"/>
                <a:gridCol w="533412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ames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1368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lans for the summer holiday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cc"/>
                      </a:solidFill>
                    </a:lnL>
                    <a:lnR w="13680">
                      <a:solidFill>
                        <a:srgbClr val="6600cc"/>
                      </a:solidFill>
                    </a:lnR>
                    <a:lnT w="1368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Wang Mei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cc"/>
                      </a:solidFill>
                    </a:lnL>
                    <a:lnR w="1368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ao Xiaolin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cc"/>
                      </a:solidFill>
                    </a:lnL>
                    <a:lnR w="1368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83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Yi Han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cc"/>
                      </a:solidFill>
                    </a:lnL>
                    <a:lnR w="1368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i Ming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1368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cc"/>
                      </a:solidFill>
                    </a:lnL>
                    <a:lnR w="1368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13680">
                      <a:solidFill>
                        <a:srgbClr val="66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文本框 50265"/>
          <p:cNvSpPr/>
          <p:nvPr/>
        </p:nvSpPr>
        <p:spPr>
          <a:xfrm>
            <a:off x="3124080" y="3398760"/>
            <a:ext cx="32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vel to Germany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文本框 50266"/>
          <p:cNvSpPr/>
          <p:nvPr/>
        </p:nvSpPr>
        <p:spPr>
          <a:xfrm>
            <a:off x="3048120" y="431316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ke swimming lessons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文本框 50267"/>
          <p:cNvSpPr/>
          <p:nvPr/>
        </p:nvSpPr>
        <p:spPr>
          <a:xfrm>
            <a:off x="2971800" y="510552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ve with a family in the countryside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文本框 15361"/>
          <p:cNvSpPr/>
          <p:nvPr/>
        </p:nvSpPr>
        <p:spPr>
          <a:xfrm>
            <a:off x="685800" y="1600200"/>
            <a:ext cx="77724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’m going to read storybooks to young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ildren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打算给小孩们读故事。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文本框 15362"/>
          <p:cNvSpPr/>
          <p:nvPr/>
        </p:nvSpPr>
        <p:spPr>
          <a:xfrm>
            <a:off x="762120" y="2666880"/>
            <a:ext cx="7772400" cy="25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ead sth. to sb.=read sb. sth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给某人读某物。注意翻译时与汉语的区别，“看书”不能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也不能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ok at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类似的有：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看报纸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ead newspapers;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查阅地图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ead a map;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看电视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atch TV;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看信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ead a letter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文本框 15369"/>
          <p:cNvSpPr/>
          <p:nvPr/>
        </p:nvSpPr>
        <p:spPr>
          <a:xfrm>
            <a:off x="762120" y="8380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1" name="图片 15370" descr="3"/>
          <p:cNvPicPr/>
          <p:nvPr/>
        </p:nvPicPr>
        <p:blipFill>
          <a:blip r:embed="rId1"/>
          <a:stretch/>
        </p:blipFill>
        <p:spPr>
          <a:xfrm>
            <a:off x="6477120" y="1066680"/>
            <a:ext cx="152388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1:42:54Z</dcterms:created>
  <dc:creator/>
  <dc:description/>
  <dc:language>en-US</dc:language>
  <cp:lastModifiedBy>Administrator</cp:lastModifiedBy>
  <dcterms:modified xsi:type="dcterms:W3CDTF">2019-01-02T01:44:08Z</dcterms:modified>
  <cp:revision>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